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892D-5693-4558-9102-35276012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EF7A-DA78-47BA-A954-85DE448B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D19C-4F13-46E0-9FE0-BD07E8C6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553E-879C-466D-A326-668CBDF9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2169-74D6-4020-B2EC-D5889FD8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FB62-37ED-4FB0-B107-82F7CA62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672F-AC55-4753-ABD6-AA9B8405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7A1B-0A07-47C5-ADE5-642DA691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59FD-5899-4753-8170-66118B2D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936F-2EAE-4B9C-B4A5-E3E33EC0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682C-993A-4A8C-96FA-A9FA001E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12BB-63B5-41DE-9D09-EF985BC1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E7A4-C339-428E-85BE-04486404C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bra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22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ordered triples associated with each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by the addition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a linear system in three variab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system of three equations containing x, y, and z.   It is solved by an ordered triple (x, y, z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-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3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81480" y="28195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you solve a system of three equ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one pair of equations and use the addition method to eliminate one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different pair and use the addition method to eliminate the same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the system of two equations that you have found in steps 1 and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e the values back into one of the original equations and solve for the remaining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pag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z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-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-2y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+3z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=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z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x-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+z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=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1752480"/>
            <a:ext cx="3886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z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x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2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2z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x</a:t>
            </a:r>
            <a:r>
              <a:rPr b="0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-2y</a:t>
            </a:r>
            <a:r>
              <a:rPr b="0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+3z</a:t>
            </a:r>
            <a:r>
              <a:rPr b="0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=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5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5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(3x +5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6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x-5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-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x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+2z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=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1905120"/>
            <a:ext cx="3581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2(4) =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pag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+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+z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x-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-2y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+3z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=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+y+4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lution is (2, -1, 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f I get a strange answ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get answer like 0=0, then the system is depen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get answer like 1=0, the system is inconsis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477120" y="3886200"/>
            <a:ext cx="2200320" cy="2257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400800" y="1447920"/>
            <a:ext cx="220032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14:57:22Z</dcterms:created>
  <dc:creator>nuhs</dc:creator>
  <dc:description/>
  <dc:language>en-US</dc:language>
  <cp:lastModifiedBy>nuhs</cp:lastModifiedBy>
  <dcterms:modified xsi:type="dcterms:W3CDTF">2007-10-22T20:15:23Z</dcterms:modified>
  <cp:revision>7</cp:revision>
  <dc:subject/>
  <dc:title>Algebra 2A</dc:title>
</cp:coreProperties>
</file>